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BB0-6EB7-4663-ADE5-55897E8D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4AC-CDB1-4E8A-AB19-B985A361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59116-28A1-4CD2-8C97-70F7C71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92466-72E9-4212-8515-6BD35273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8C488-2743-4866-A4C9-9080C22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752EA-63AB-44F9-8AC6-8DCBB1D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A8B5A-B2BA-4787-A3A6-2A735E54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08EF0-2A2B-425D-B3B6-F230528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ADF83-92B6-4ABC-9696-30426941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A976E-4974-4431-9BA3-C18EC16E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3805B-9A2B-478B-A611-6229EAC4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964-2274-4256-A12F-EC4E3EDA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112-173E-4262-82DD-D86F77AD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1DD-EA00-4C1B-BE82-2FB717C7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152-B845-47FB-9769-1461430C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9C5-8E29-48BB-9581-68E85E9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72F-9269-4452-8984-16A1265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A3BE-3A20-40D1-99CE-5187E549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D186-A8DD-4DDE-9A72-C64B7A9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A630-0995-4E9B-9E5B-E788E91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C70-EC93-488B-9E49-68A6DD92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7C46-A460-4FF0-8E42-6349213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18DC-4E1D-435D-870D-EEDCB14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757-558C-4612-B27E-4EE5CEE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566A-1D7E-493F-BBF6-E232526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F40A-400E-464F-920E-047EAC3E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A5B6-682C-4ABD-B16B-32C4B4C7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A544-F708-4113-BD19-435CF67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8A81-79C7-489E-989B-9E02921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12E7-8DA7-4356-9FB1-A7DF0D68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850C-7D9C-498E-9816-885DCD5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A84-88E4-4EF7-A6D2-267A9F7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6CF2-F33B-455D-A906-F85F6C9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9276-111C-4C15-BE31-D1AEB37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F002-6DBB-4CDC-AE83-0BE5319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9368-82D5-4613-845F-BEBD5F8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6C03-1921-43BB-94B9-18841029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27D6-CADA-4656-B99D-94A48509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E989-6260-489F-AC0F-C55B8B8D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94F5-BBEC-4C63-920D-57BB4F6D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8A1F-9E7D-491C-A725-1355E4C7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3000-4DB0-47BE-A0FB-84A3B2FD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C26-BE2E-48B8-AAED-23035005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37BD-BF43-44FF-B2E5-F6BED39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CCE1-1A8A-4EC8-B1AB-AAA5793E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1356-E994-4A9C-A6DE-4ACD12A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DE1A-5B0A-4E9C-B578-3747856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3A66-B59A-4011-A364-72779AF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79B0-AF3B-4914-805D-5CCC92C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08EF-1329-4DA1-AD92-49AE5A8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D880-4569-4EBE-A254-6F8FC782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5EB2-0868-4B87-93F8-16A490DB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50DC-5912-42E7-AB3F-D96D34C6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E30-8EEB-40F4-AC53-46D78808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9D00-4F96-43D9-975A-75F9D5A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BCBB-E72F-4F26-8483-82E981C2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BA81-18BB-4DB2-94A1-6F2674F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F3A3-60CE-42B6-B887-41A5193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C1C1-F87C-4B50-85F9-210F562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2A69-F931-4ED3-B90B-E862666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C58E-5522-4145-AF3D-59F0839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026A-E29C-4F82-8F11-3E97420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DB635-3AAD-4CAF-B20D-6C0ADC08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B78D4-0A0F-4335-B7EB-F3D111D6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4EB-EEAF-4F01-9D61-9C8F28AB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87C30-8B5C-4702-AC05-CE470813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DAF2-1B9C-4FBC-88C7-C2DC8E4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212F9-7601-4198-B16E-B83F37B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3187A-B562-4D03-BB55-78592160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2D02-FA97-4768-8D1B-1ADA4AB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2976-AC8C-4374-A329-26AE805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09D4-4A6C-43FE-B04F-6CDB8D3B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8EA0-020D-4A27-958A-E34FA8D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CE73-B694-4F83-9D26-8F4EF57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BC4A-0367-4712-A9A1-DCB9E4C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56D-1EE0-43E9-8879-4AB303A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20B5-EF0D-4F3D-B57A-A441567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2833-A6CA-45E5-9D8E-0F8327E9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CDE5-B157-4451-9D8A-9FB1117A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6816-8F81-4F9B-B72B-3676A291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7AB3-8D6E-4AA5-8DBE-9D973EC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9A5F-B846-4610-9080-237C85C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9171E-F2D8-4774-870B-98C195C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E433-D3B7-4127-BB0B-D9A8B278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7626-2BC3-4DDB-87EF-92CF27B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5EE81-903F-4BFE-BF95-DE042B2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238-FE0B-44E1-86C7-952178F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251A-A166-4E25-8A20-0DF7B44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B895-1B1A-4D14-AE21-D7C3A97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43C4F-C29F-4D38-BC22-196DA9A5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2FA8-B1E3-4C4F-8FC6-BFEF07AC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2FF3-2E50-4D1C-B52B-A74A49DD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1779-F561-4B5B-9B7F-325806A8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AFA6-E954-4D7B-B7DA-E694BE9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89DF-A41C-4CAD-9B79-AE07FB3F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8F32A-5469-4919-8C3E-8F9F3F1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8C965-57A1-40E4-AB30-19B842A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BB9-F2B8-4003-AF0E-1642C2A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76C3-86F4-4F6F-A4A7-4BE730A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337BE-5B8E-4BEE-B558-B516A76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6967-1B1E-42F4-8B36-32F09F7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9AC3-0BEB-4BC8-8CA4-02D09E5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A635C-C0BF-4C02-9FF9-55C51A3C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CCB1-C98F-4D28-9EA1-1F139640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2A60-678E-4BCF-9ABD-A85277E6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F7D5-6CDF-4897-96E1-705B4972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6D1FE-CED1-43CB-A0D2-EFE333B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2B8CD-6732-45A5-BD74-1D14A96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84F-4075-42C3-B73A-3835F3083A1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4C0-7638-4683-9A57-0116C3C3FAC3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D70-0865-43CF-ACF0-CD2C7B00EF7F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97D7-9131-48F5-B14E-1FEAA3F5E5B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1DE-CA89-40EF-8FCE-0AA19B2AB5C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290-FE84-447A-81AF-D6A4D2BC915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1DE-5591-4419-BDAF-AE37064429D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7EB-DE31-454A-8081-25A4C4159A9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9FD-B744-48AF-A2AA-AD6BB91961B6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 gestionar la empresa, adquirir materiales, buscar ayudas económicas y publicid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1T10:24:26Z</dcterms:modified>
  <cp:revision>12</cp:revision>
  <dc:subject/>
  <dc:title>NATURALCAMP</dc:title>
</cp:coreProperties>
</file>